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финансов администрации Терн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dt" idx="61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ftr" idx="62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 type="sldNum" idx="63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4EC0-69A6-42D4-9A2B-B72D573682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0B9D-74C4-4C8F-AB39-87093B26F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Верхний колонтитул 4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 финансов администрации Терн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Верхний колонтитул 3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 финансов администрации Терн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Номер слайда 4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661E-9B31-4FA4-9740-C622D2578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500C-FF15-4E4B-84C2-E97829DFF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Верхний колонтитул 4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 финансов администрации Терн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8D96-4408-4E80-B1F9-AD4BD4E7E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Верхний колонтитул 4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 финансов администрации Терн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1F9-A2A2-43AD-BFC9-791B2A9E4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Верхний колонтитул 4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 финансов администрации Терн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Верхний колонтитул 3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 финансов администрации Терн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Номер слайда 4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854-51ED-4C6D-ADC0-147589C9D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70F92-9AC1-4E2A-8B3E-F8B77F78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2466-294E-494E-AD3F-C724E12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E87E7-662B-44C1-8332-464B107A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4F90-593E-4274-90CD-56E8D05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D0EE-3180-43C8-AE22-D9BFFB0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9D0C4-773C-46BC-A839-9C7CE01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CF7E7-65C9-493F-94B8-763CAFEC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7B008-0A4E-44D5-A511-DC02BD7B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BCE9D-D38C-4E7A-BFD2-DA0C643F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F054-09B5-4A23-967C-3BAB067F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9C547-1635-4D6E-A8E5-52C82FE3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AAA5F-AAFA-4B12-8E02-DDB5D54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73C07-189C-4F7C-B45B-3925D34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12AB6-DE9B-499F-BD75-6D2515C3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06D0C-6F5C-49D8-AE44-B6A2FFE7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BBA8C-24D5-4D2A-828C-2BF45AB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75EEB-A9D8-4B30-9F52-77C9633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3652-4A68-4220-B5E6-DBB42492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447A-3E0B-4EC4-8034-93E1D6DF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AB8AA-9395-4D04-ACB5-15C931C2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4DD15-B6FC-4F44-9009-14DEA6E0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38A33-55EA-4A2B-AA43-D3662DDB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A9C14-202D-4D4B-8A62-A4082796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F54E0-E393-47FD-B505-197EBEC9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CA999-1BC9-4749-80A4-4AC1ABF8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03FBB-2001-4957-B92E-258983E5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0444A-338F-4DC6-BB82-58A1A2F8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EB7FF-5980-4E50-A99E-31425DE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CE387-B445-4CCB-B636-28C5EE7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16A5D-FF6A-46F2-8BA0-4177926E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593-A9BA-4FBD-99D4-635FA3CE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11171-6A4F-4FAA-B514-EB41ABB7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E8596-D547-4886-8D42-2465D9E7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77DEC-85B1-440A-A202-3474F763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4F9CB-2824-48B9-BBE0-27469EDF596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62F76-5C64-4E85-B5FA-AAE0A8AA2F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4D520-A9A2-41E6-B485-99A1F5B649A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82933-80AA-419B-A7BA-ED6F53F093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FCB01-73AD-4AE0-A692-B49BCF1F962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03812-3117-42F2-B668-FC1BE76A262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2695D-9448-4BCD-B190-6183E0D3DF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439-E959-446D-8FA7-AB93DBF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9E90F-C928-4644-A8C8-0236D34FF87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040C8-EDFF-4536-95EF-B8178CDE61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E0259-5A96-4BD3-AE18-D747DB3317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D86B5-4BBB-4127-830B-55F7571133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8EF58-F3E7-48A5-83DC-7F9D98B3E98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B0B60F-80BB-4C5F-91A0-98E41EB1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327F58-DEA3-4CE1-AC9D-89DB06E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04838E-0A8C-41C8-A408-56F8767B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6D25AC-3F92-4256-AEC3-ADEDC847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D5B77F-E0FA-4A6B-8CBA-6F42AB49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188-845D-421A-B1A3-FA341985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D6305C-E243-48FE-8D8D-B92E96F4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F3E6D2-727F-4EFA-B0BD-963F0AB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5DA785-ABA3-4F34-B706-503F8D73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16DF4E-A133-4289-ABEC-547489A5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E742CE-5E8F-47B2-BD75-F4FB84F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D4F1DE-707E-4FF3-A4E7-99373A22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744B56-F433-4D2F-A7C5-A2788D86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FD502-10AF-407F-9B69-DD99EE6E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67EF1-208E-4016-9018-C0D8C731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73601-2CB8-4C02-B4EF-37FCA3AC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BBF-3E4E-436D-A261-48305FB2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004A5-AC3B-43FA-93DB-ED6B7122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7ECB7-A61C-4C54-AF9C-BD31F4A2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28BEB-467C-4691-AEC4-657F61B2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DE882-E34A-419B-B12C-893897A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FC7C3-8353-4923-9879-BB1863F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FE003-BF73-47B1-B62B-DBD11C2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03D9E-F79E-4AE0-A7F5-B96EEDF9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765A3-056D-46D1-A71F-1524D13F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EE49C-E7D4-4B6C-B325-00B78095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111E27-CE23-455D-81FB-817BE296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D26-F782-4F45-84FE-24D93E01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2E878F-A14A-4710-8419-4B1C322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57BA6F-14CA-465F-A119-634DD507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43961C-1F2A-4DDF-A26F-A4E648C3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A1737E-74E5-49C5-8DE4-0FD9F298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E2FFCF-B9EF-4DD1-ACF6-652679D0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F972A2-4462-4990-BC43-D7AEEED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58C941-CCDF-440B-B063-86E0334E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517DC3-E6E1-407F-A691-38FF06D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16278C-8994-4B02-AEE7-936360D0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532FB7-7039-427A-B94A-C1B713D6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CCB-A7DD-449D-AC22-43FCBCB9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11C173-3779-4461-9280-6C69DB28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0B306E-0F32-408E-9D5A-82F6DB32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292207-2B81-43A5-959A-E7E7DA1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DDAB1D-12E2-49F1-8AD7-C13664D8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FD434A-A0A9-418D-94FE-5EB63899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A5E008-114D-41F9-839B-F8E875C1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AB3F34-C24C-4E51-9B0F-B77AB58B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65414A-BDBF-4917-8D72-E2D7AFE0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5899C0-DF9C-4679-A55D-5DB1F260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7798DE-7564-46A8-91C9-C82B8C25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4DE-D453-40D9-9695-F6874BB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ED1AFD-D91D-4F17-A59A-0A0DE556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B46D36-EF07-40C3-B792-F59F7C83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AD4376-7271-4291-BE80-44531E7F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A19C49-973F-473D-9DC2-39E3ECC7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2EA164-3F9C-4958-86E3-A05265EE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70B981-9E64-4DF5-9FFA-21F2AE99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5C8B52-9006-4ED5-9732-FBCA47F0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687168-DB83-4DA9-AFF9-4E1C6904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9588F9-6011-40F4-968B-143A9130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DDB6DE-7962-4E80-95EE-0E22B7C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6A9-327C-4211-9AC5-A1AC4AE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2AAE3A-7D83-4932-9512-E634A59A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68765D-6F2E-4C4A-A050-135E7F4B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C93259-957A-4477-8388-19D71D7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EDF6EC-FE04-45B6-9D64-8D4926CC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909531-F168-4A53-A2B3-B8ED8C32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8D6E40-8279-4DBB-86EF-A820AB3F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78BFF0-881A-4C49-BA4D-76DF98CD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6393D8-5116-4223-A0A8-BCB7F2AC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B7F817-5C61-4308-8098-150CABAA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8FE1E7-8105-441B-8B50-4C929B3F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E08-9901-4AAF-91B1-DA965B1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A60EC6-C367-4DE6-81B3-379E020B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817B22-7481-4B59-87B6-35E6DA01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BE21F2-E322-4C57-9A52-9B38A78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6B00CD-B455-42FE-851C-253CA93E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1EE679-1256-40E9-ACDC-06D07397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273B26-A86A-45DE-AF29-1A986BAA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299269-5E18-4EC3-A23B-84A8A4BB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29A0D3-9AE4-4156-A55B-28AEA3A5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030224-3CEF-43B3-A385-D9103859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D7CE84-61BB-4395-81A2-C3785156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66D-06DA-4D6C-887F-08E9914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DF1017-E4F8-490C-9472-7327DBB1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6CDB9C-C110-4239-AD49-32AB1F6A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E8E556-1255-401D-8509-F45B7C2D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AFFC4B-7BA2-4E3A-A1F3-8699A68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05C054-2C55-4A2E-84ED-64D9499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D3AD251-C5AB-4488-B9B7-BC197C7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F4DF8C-B123-4E59-939B-B22ED16E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114DBA-10C0-45E0-9D42-DFF9352F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2A7368-3307-4F8D-B64D-0108C0EA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5628CB-B405-4175-825B-172016817C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E77-86F2-48A5-8775-BF604230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095BEF-A843-4594-8473-2712503F35E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67D356-EA9F-4EC1-9EE4-222DFBEA56B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613A27-87E0-412F-AD11-1AD4B5DF33A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4560E8-220C-438C-931C-5E7C0838A13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A0D262-40EF-429D-A639-82C819E25F3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054957-F03A-4D12-8F25-9A5E85E9BC8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B402FA-2971-43EA-A41C-7EFECE11CE2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4733F5-1807-4EE1-BA58-4CA90FE1581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B24DA4-6B71-4676-B55F-BCA3238FAA3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8E28B6-5A32-470C-8A70-91084EB4AF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6F3-6AAA-4B7E-A52C-B0E80D29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FB54A5-CC92-406B-A0D3-457490AC4EA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AD82D9-8FA5-44C5-A4C2-8437C39D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3D589B-AF88-4768-8F3B-B991AA69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758073-C003-4C7B-A37B-DC52BD58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F8FEC2-887E-42D4-94EB-AD014E6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63C7F7-2B4B-4630-9811-866286B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AFE5CF-0AF1-41E4-99B1-FB52C600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5A8B56-CC8C-4310-9AF2-CD01920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C955E1-F1EE-41E1-9740-6A0D7A4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0BF87D-254E-440F-BC06-C9DFFA2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B8935F-C250-46D3-8ACC-4AFF228E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1F9CED-C188-420E-BBB1-29D415ED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F2C6D9-38BE-4970-900A-ED6ED5D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839489-CEC3-4605-9195-00612DC4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9EDE60-603B-42DD-A8B3-BDC97C9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CFB3E51-4479-4453-83E6-92800D05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31A4AD-F2B3-4F95-B699-E8B301C6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8E9DE5-EAFB-4D38-83F4-E0214711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0451B8-8B11-415C-B724-AA143D71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A582B7-0AC9-4C35-8A54-BC36CE70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33A69E-D326-4E30-9702-D2DCE96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972E0A-D4B5-46C9-B0E8-A3208C3B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C9851D-FD58-44B1-8D5D-76DF4041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B44DE8C-4CF4-440F-80FC-7FC696CD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FDD837-DA61-4BBE-8CA4-416BFA77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C3E336-D001-4BDE-93D7-8C778423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32A036-F3E2-4522-BDD9-25140D61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3F2E465-61AB-4AB4-9C19-E283074B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F01836E-4C0A-4EA2-A423-E4B4D3A9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3C5893-57CD-4B40-9C34-03196397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A495EF-2C3D-4CC4-90E3-149D2BD0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BDE00FE-ACCE-4051-B2C5-ACD2A23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70FE1E-F8B6-45CA-8550-C3C0726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EF00FF-51E8-4E0F-95F7-7DCAD47E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F3EF37-8006-4C7A-9FD9-A89682FC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9ED89F-F795-4B51-A080-2CB08228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0B89A8-CCBD-47B5-8CB1-2BE5C5FF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F1703-7AF7-49BF-B2DC-8C2EEEB02AF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10A3E-0F2A-4BC7-9010-D3274332D95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B6568-FEB2-42F6-837A-88B034ACC3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716BF5-292A-4951-8DF2-B0EA5AFA97F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73711-E6FA-418C-A3A8-60862C744AD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0C497-AF0F-4D8C-86B4-59DCCA4B819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4FFED-18F7-4A18-8E84-F7D9DAEBD34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B1C54-AE67-4D39-ACA6-1DCAB3F024A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39337-32BC-4DA5-91A3-87006A93AAD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21823-1382-4AED-9311-8D9E381815C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ACBE7-9F81-4BBC-A7A5-119EDF4AFD5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44DF7-88D3-40C4-9DC7-797C899D9E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5E14-FC65-47B7-82C3-298583DC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E19C-8E64-4248-A1E9-6F14791C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D47E-1BD8-4B75-9CBD-FB66BDB3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22BB-4622-44EA-8D4E-15CDB3F4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840F-A527-41AD-B1BA-E5D95DD6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9709-853A-441D-BE38-8F2BFA21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B83-E5D1-445D-BD2B-7BB98B45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4C63-62B7-40F4-A0EA-7290A65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DF5E-D59B-4D74-B7A4-0EA21BD3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02F9-0D54-49E0-ADC5-3996F8A1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3631-10DE-47AF-91D5-F05A24B7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CA5-C486-4946-9C4E-E64AE039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97FF-C9D6-473D-AAA4-675A7FB6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4EB8-6C25-41AE-8B52-ED1CEBD8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35F9-2BBA-4AF1-B3EA-243DADC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68BF-8D0F-4487-B03E-EAB635B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C5D3-7E21-4C3D-AA7A-A8952CA8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08CE-6941-4414-AB1A-F7FBDE50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C7A5-5DC6-4295-89D6-C1B272B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5665-0AFF-43A8-B599-FD6E684C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41D0-4F9E-4A8B-81E5-53F5FA27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C494-583F-43C3-86D7-6EB17DA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B87C-0E11-4061-B1F2-1DCDE02F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8DF0-DE03-452A-9A47-0CBD910F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4CAF-5D39-41F5-AC92-7F62B4F3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0BF27-21BD-480C-834D-860A7E1A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8661-9DD9-41A7-9407-1D426472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A02A-796B-49E6-9FCE-ABD90890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65416-27AB-4F23-8917-A3B01691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8C74-8EBA-4973-872F-203E2F08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3352-50C3-4403-81A9-DBB42A94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8595-7E65-4F37-BF78-AB03CE81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A600-8C2F-42D1-958C-D41D787F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FCA1-F1DF-4F6B-991C-A29B37B8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6A68-2545-45FD-845B-286CE186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CF26D-B841-4AE3-85FF-69AD49FB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A96C-6B9C-4211-A736-A7AD354E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64278-DAC4-4B4F-B9D7-2D961150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0DD4B-20C4-45DE-9FD8-A657FB2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1B9C1-BA08-48F8-9681-ED270CE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8064-87A2-4591-A6F7-C297CD48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DE5B-3975-427B-878A-5A90E656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5AF4C-CBD1-40E6-B629-B402859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49BB-D062-4146-B9BC-2F054EB8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BB305-25AF-4CF8-95DB-5BE6695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F85D-8FBA-46FB-820C-151110AF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4B049-AD38-499B-8625-37C70EC7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6A6B7-51EC-4A33-A692-B2E54CCB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8DAB-987F-4B73-9691-A68AD89A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7861-E868-404A-9E89-99486089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DBCF-78ED-4EDE-80E8-1471EBF3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ECED-D64C-4AB7-A21C-D945D75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22DC7-CDAB-4DD5-8F12-4674509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71AA5-3C4C-4DD0-9F7E-FC126277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98861-7CB5-4A2C-802A-BCA59C7B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D585-E0BC-48C0-B75A-B0B1DFE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41E8-932F-410B-B8BC-D169F03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707C-CD70-4DB1-BB09-3172F9B3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143AB-07B7-40A2-8E7A-EE1235F0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E4B7-A3F9-4147-84AD-FB5F8A91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B0D0F-9378-40BA-B07D-BF6E4387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23B2-053F-435A-A13E-967F2387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95D4-2D3B-43B3-9D7E-8727E7CE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5E8-2CD6-4FAA-96A1-00E94DD322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3A45-24D1-4110-9704-89EEA0CD2D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28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71DB-E91A-4330-B3A0-2772A1F6B5B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7892-7544-4C80-BF91-07A068EB4E6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C46E-1075-4B68-97B1-C952252DCA3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A3E5-A36B-41CD-A4A9-AD5BBDE45CA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D615-C743-4ADF-814B-C36D3772E61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40B9-5CA4-4439-9ECB-851BA39460C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9142-35DB-438E-A618-97EF1E8E28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8819-7E1A-4751-A7ED-187027D7ADE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C54B-63FF-4F4D-9336-63108402F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Num" idx="50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660C-702A-43DB-A29E-2A75CFB2C48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CCA6-201A-40B9-A487-04292AAEEA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F0F6-5035-4C96-A7C1-298B359755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18B6-5F92-4416-B90B-3975B55DCF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Num" idx="60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F603-E3D4-44C9-A3B9-BABDC603039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5FE6-3716-47FE-8382-190153682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9CE7-7863-4E2A-A6C2-0B3F9E0DED9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D806-395B-4193-8C80-2C6F1328C93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FE6F-E218-49C9-BD4D-1CFFDB3753E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3F8D-4B32-494D-8DB6-7C5076EBB5B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6D2F-07E3-4D92-82A3-401B8D1951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0" y="1928520"/>
            <a:ext cx="8964720" cy="378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9c2d1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5f71"/>
                </a:solidFill>
                <a:latin typeface="Arial"/>
                <a:ea typeface="Andalus"/>
              </a:rPr>
              <a:t>«Бюджетное планирование и исполнение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5f71"/>
                </a:solidFill>
                <a:latin typeface="Arial"/>
                <a:ea typeface="Andalus"/>
              </a:rPr>
              <a:t> </a:t>
            </a:r>
            <a:r>
              <a:rPr b="1" lang="ru-RU" sz="2400" spc="-1" strike="noStrike">
                <a:solidFill>
                  <a:srgbClr val="295f71"/>
                </a:solidFill>
                <a:latin typeface="Arial"/>
                <a:ea typeface="Andalus"/>
              </a:rPr>
              <a:t>Братковского сельского поселения Тернов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5f71"/>
                </a:solidFill>
                <a:latin typeface="Arial"/>
                <a:ea typeface="Andalus"/>
              </a:rPr>
              <a:t>муниципального района Воронежской област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e8ea9"/>
                </a:solidFill>
                <a:latin typeface="Trebuchet MS"/>
              </a:rPr>
              <a:t>2023 год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6"/>
          <p:cNvSpPr/>
          <p:nvPr/>
        </p:nvSpPr>
        <p:spPr>
          <a:xfrm>
            <a:off x="428760" y="189000"/>
            <a:ext cx="8499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ngsana New"/>
              </a:rPr>
              <a:t>К проекту решению Совета народных депутатов Братковского сельского поселению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ngsana New"/>
              </a:rPr>
              <a:t>Терновского муниципального района Воронежской обла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ngsana New"/>
              </a:rPr>
              <a:t>«О бюджете Братковского сельского поселения на 2023 год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ngsana New"/>
              </a:rPr>
              <a:t>и на плановый период 2024 и 2025 годов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Рисунок 5" descr="bjudzhet.jpg"/>
          <p:cNvPicPr/>
          <p:nvPr/>
        </p:nvPicPr>
        <p:blipFill>
          <a:blip r:embed="rId1"/>
          <a:stretch/>
        </p:blipFill>
        <p:spPr>
          <a:xfrm>
            <a:off x="5645160" y="4432320"/>
            <a:ext cx="3286080" cy="213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95f71"/>
                </a:solidFill>
                <a:latin typeface="Bookman Old Style"/>
              </a:rPr>
              <a:t>Основные характеристики бюджета на 2023 го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Содержимое 5" descr="Defitsit-byudzheta.jpg"/>
          <p:cNvPicPr/>
          <p:nvPr/>
        </p:nvPicPr>
        <p:blipFill>
          <a:blip r:embed="rId1"/>
          <a:stretch/>
        </p:blipFill>
        <p:spPr>
          <a:xfrm>
            <a:off x="0" y="1500120"/>
            <a:ext cx="8924760" cy="4956120"/>
          </a:xfrm>
          <a:prstGeom prst="rect">
            <a:avLst/>
          </a:prstGeom>
          <a:ln w="0">
            <a:noFill/>
          </a:ln>
        </p:spPr>
      </p:pic>
      <p:sp>
        <p:nvSpPr>
          <p:cNvPr id="979" name="TextBox 6"/>
          <p:cNvSpPr/>
          <p:nvPr/>
        </p:nvSpPr>
        <p:spPr>
          <a:xfrm>
            <a:off x="1709280" y="371484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555,8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5139000" y="507204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555,8 тыс.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8"/>
          <p:cNvSpPr/>
          <p:nvPr/>
        </p:nvSpPr>
        <p:spPr>
          <a:xfrm>
            <a:off x="4578120" y="2071800"/>
            <a:ext cx="225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,0 тыс.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629560" cy="542916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572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5f71"/>
                </a:solidFill>
                <a:latin typeface="Bookman Old Style"/>
              </a:rPr>
              <a:t>Основные параметры бюджета Братковского </a:t>
            </a:r>
            <a:br>
              <a:rPr sz="2300"/>
            </a:br>
            <a:r>
              <a:rPr b="1" lang="ru-RU" sz="2300" spc="-1" strike="noStrike">
                <a:solidFill>
                  <a:srgbClr val="295f71"/>
                </a:solidFill>
                <a:latin typeface="Bookman Old Style"/>
              </a:rPr>
              <a:t>сельского поселения</a:t>
            </a:r>
            <a:br>
              <a:rPr sz="2300"/>
            </a:br>
            <a:br>
              <a:rPr sz="2300"/>
            </a:br>
            <a:r>
              <a:rPr b="1" lang="ru-RU" sz="2300" spc="-1" strike="noStrike">
                <a:solidFill>
                  <a:srgbClr val="295f71"/>
                </a:solidFill>
                <a:latin typeface="Bookman Old Style"/>
              </a:rPr>
              <a:t>                                                               </a:t>
            </a:r>
            <a:r>
              <a:rPr b="1" lang="ru-RU" sz="2000" spc="-1" strike="noStrike">
                <a:solidFill>
                  <a:srgbClr val="295f71"/>
                </a:solidFill>
                <a:latin typeface="Bookman Old Style"/>
              </a:rPr>
              <a:t>(тыс. руб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6"/>
          <p:cNvSpPr/>
          <p:nvPr/>
        </p:nvSpPr>
        <p:spPr>
          <a:xfrm>
            <a:off x="642960" y="642960"/>
            <a:ext cx="7848720" cy="474840"/>
          </a:xfrm>
          <a:prstGeom prst="rect">
            <a:avLst/>
          </a:prstGeom>
          <a:gradFill rotWithShape="0">
            <a:gsLst>
              <a:gs pos="0">
                <a:srgbClr val="eaf7fe"/>
              </a:gs>
              <a:gs pos="100000">
                <a:srgbClr val="c5e6f5"/>
              </a:gs>
            </a:gsLst>
            <a:lin ang="5400000"/>
          </a:gradFill>
          <a:ln w="11520">
            <a:solidFill>
              <a:srgbClr val="6bb1c9"/>
            </a:solidFill>
            <a:miter/>
          </a:ln>
          <a:effectLst>
            <a:outerShdw dist="24840" dir="5400000" blurRad="0" rotWithShape="0">
              <a:srgbClr val="2d6d82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95f71"/>
                </a:solidFill>
                <a:latin typeface="Bookman Old Style"/>
              </a:rPr>
              <a:t>Структура налоговых доходов в 2023 год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Диаграмма 3" descr=""/>
          <p:cNvPicPr/>
          <p:nvPr/>
        </p:nvPicPr>
        <p:blipFill>
          <a:blip r:embed="rId1"/>
          <a:stretch/>
        </p:blipFill>
        <p:spPr>
          <a:xfrm>
            <a:off x="0" y="1509840"/>
            <a:ext cx="9070920" cy="534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6"/>
          <p:cNvSpPr/>
          <p:nvPr/>
        </p:nvSpPr>
        <p:spPr>
          <a:xfrm>
            <a:off x="571680" y="285840"/>
            <a:ext cx="8246880" cy="474840"/>
          </a:xfrm>
          <a:prstGeom prst="rect">
            <a:avLst/>
          </a:prstGeom>
          <a:gradFill rotWithShape="0">
            <a:gsLst>
              <a:gs pos="0">
                <a:srgbClr val="eaf7fe"/>
              </a:gs>
              <a:gs pos="100000">
                <a:srgbClr val="c5e6f5"/>
              </a:gs>
            </a:gsLst>
            <a:lin ang="5400000"/>
          </a:gradFill>
          <a:ln w="11520">
            <a:solidFill>
              <a:srgbClr val="6bb1c9"/>
            </a:solidFill>
            <a:miter/>
          </a:ln>
          <a:effectLst>
            <a:outerShdw dist="24840" dir="5400000" blurRad="0" rotWithShape="0">
              <a:srgbClr val="2d6d82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95f71"/>
                </a:solidFill>
                <a:latin typeface="Bookman Old Style"/>
              </a:rPr>
              <a:t>Структура неналоговых  доходов в 2023 год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Диаграмма 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6"/>
          <p:cNvSpPr/>
          <p:nvPr/>
        </p:nvSpPr>
        <p:spPr>
          <a:xfrm>
            <a:off x="108000" y="638280"/>
            <a:ext cx="8569440" cy="1236600"/>
          </a:xfrm>
          <a:prstGeom prst="rect">
            <a:avLst/>
          </a:prstGeom>
          <a:gradFill rotWithShape="0">
            <a:gsLst>
              <a:gs pos="0">
                <a:srgbClr val="eaf7fe"/>
              </a:gs>
              <a:gs pos="100000">
                <a:srgbClr val="c5e6f5"/>
              </a:gs>
            </a:gsLst>
            <a:lin ang="5400000"/>
          </a:gradFill>
          <a:ln w="11520">
            <a:solidFill>
              <a:srgbClr val="6bb1c9"/>
            </a:solidFill>
            <a:miter/>
          </a:ln>
          <a:effectLst>
            <a:outerShdw dist="24840" dir="5400000" blurRad="0" rotWithShape="0">
              <a:srgbClr val="2d6d82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95f71"/>
                </a:solidFill>
                <a:latin typeface="Bookman Old Style"/>
              </a:rPr>
              <a:t>Структура налоговых и неналоговых доходов  бюджета Братковского сельского поселения в 2024-2025 год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Object 2"/>
          <p:cNvGraphicFramePr/>
          <p:nvPr/>
        </p:nvGraphicFramePr>
        <p:xfrm>
          <a:off x="250920" y="2421000"/>
          <a:ext cx="8326440" cy="39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421000"/>
                    <a:ext cx="8326440" cy="39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5" descr=""/>
          <p:cNvPicPr/>
          <p:nvPr/>
        </p:nvPicPr>
        <p:blipFill>
          <a:blip r:embed="rId1"/>
          <a:stretch/>
        </p:blipFill>
        <p:spPr>
          <a:xfrm>
            <a:off x="0" y="353880"/>
            <a:ext cx="9015480" cy="1809720"/>
          </a:xfrm>
          <a:prstGeom prst="rect">
            <a:avLst/>
          </a:prstGeom>
          <a:ln w="0">
            <a:noFill/>
          </a:ln>
        </p:spPr>
      </p:pic>
      <p:pic>
        <p:nvPicPr>
          <p:cNvPr id="966" name="Содержимое 11" descr=""/>
          <p:cNvPicPr/>
          <p:nvPr/>
        </p:nvPicPr>
        <p:blipFill>
          <a:blip r:embed="rId2"/>
          <a:stretch/>
        </p:blipFill>
        <p:spPr>
          <a:xfrm>
            <a:off x="182520" y="1530360"/>
            <a:ext cx="8723520" cy="5138640"/>
          </a:xfrm>
          <a:prstGeom prst="rect">
            <a:avLst/>
          </a:prstGeom>
          <a:ln w="0">
            <a:noFill/>
          </a:ln>
        </p:spPr>
      </p:pic>
      <p:sp>
        <p:nvSpPr>
          <p:cNvPr id="967" name="TextBox 14"/>
          <p:cNvSpPr/>
          <p:nvPr/>
        </p:nvSpPr>
        <p:spPr>
          <a:xfrm>
            <a:off x="1714680" y="3571920"/>
            <a:ext cx="167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11555,8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605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95f71"/>
                </a:solidFill>
                <a:latin typeface="Bookman Old Style"/>
              </a:rPr>
              <a:t>Доля расходов на реализацию муниципальных программ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Содержимое 5" descr=""/>
          <p:cNvPicPr/>
          <p:nvPr/>
        </p:nvPicPr>
        <p:blipFill>
          <a:blip r:embed="rId1"/>
          <a:stretch/>
        </p:blipFill>
        <p:spPr>
          <a:xfrm>
            <a:off x="357120" y="0"/>
            <a:ext cx="8786880" cy="642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Содержимое 5" descr=""/>
          <p:cNvPicPr/>
          <p:nvPr/>
        </p:nvPicPr>
        <p:blipFill>
          <a:blip r:embed="rId1"/>
          <a:stretch/>
        </p:blipFill>
        <p:spPr>
          <a:xfrm>
            <a:off x="1136520" y="1577880"/>
            <a:ext cx="7734600" cy="456588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5f71"/>
                </a:solidFill>
                <a:latin typeface="Bookman Old Style"/>
              </a:rPr>
              <a:t>Структура расходов бюджета</a:t>
            </a:r>
            <a:br>
              <a:rPr sz="2300"/>
            </a:br>
            <a:r>
              <a:rPr b="1" lang="ru-RU" sz="2300" spc="-1" strike="noStrike">
                <a:solidFill>
                  <a:srgbClr val="295f71"/>
                </a:solidFill>
                <a:latin typeface="Bookman Old Style"/>
              </a:rPr>
              <a:t> Братковского сельского поселения</a:t>
            </a:r>
            <a:br>
              <a:rPr sz="2300"/>
            </a:br>
            <a:r>
              <a:rPr b="1" lang="ru-RU" sz="2300" spc="-1" strike="noStrike">
                <a:solidFill>
                  <a:srgbClr val="295f71"/>
                </a:solidFill>
                <a:latin typeface="Bookman Old Style"/>
              </a:rPr>
              <a:t>на 2023 год на подпрограммные</a:t>
            </a:r>
            <a:br>
              <a:rPr sz="2300"/>
            </a:br>
            <a:r>
              <a:rPr b="1" lang="ru-RU" sz="2300" spc="-1" strike="noStrike">
                <a:solidFill>
                  <a:srgbClr val="295f71"/>
                </a:solidFill>
                <a:latin typeface="Bookman Old Style"/>
              </a:rPr>
              <a:t> мероприятия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5072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341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5f71"/>
                </a:solidFill>
                <a:latin typeface="Bookman Old Style"/>
              </a:rPr>
              <a:t>Муниципальная программа </a:t>
            </a:r>
            <a:br>
              <a:rPr sz="2200"/>
            </a:br>
            <a:r>
              <a:rPr b="1" lang="ru-RU" sz="2200" spc="-1" strike="noStrike">
                <a:solidFill>
                  <a:srgbClr val="295f71"/>
                </a:solidFill>
                <a:latin typeface="Bookman Old Style"/>
              </a:rPr>
              <a:t>«Содействие развитию муниципальных образований и местного самоуправления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179280" y="1268280"/>
          <a:ext cx="8640720" cy="3040200"/>
        </p:xfrm>
        <a:graphic>
          <a:graphicData uri="http://schemas.openxmlformats.org/drawingml/2006/table">
            <a:tbl>
              <a:tblPr/>
              <a:tblGrid>
                <a:gridCol w="5451480"/>
                <a:gridCol w="1074960"/>
                <a:gridCol w="1004760"/>
                <a:gridCol w="1109520"/>
              </a:tblGrid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дпрограм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 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 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5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ое обеспечение реализации муниципальной програм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9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1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устройство территории и обеспечение качественными услугами ЖК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4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ддержка гражд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азвитие культуры сельского поселения»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6bb1c9"/>
                      </a:solidFill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4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6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6bb1c9"/>
                      </a:solidFill>
                    </a:lnR>
                    <a:lnT w="5760">
                      <a:solidFill>
                        <a:srgbClr val="6bb1c9"/>
                      </a:solidFill>
                    </a:lnT>
                    <a:lnB w="5760">
                      <a:solidFill>
                        <a:srgbClr val="6bb1c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5" name="TextBox 5"/>
          <p:cNvSpPr/>
          <p:nvPr/>
        </p:nvSpPr>
        <p:spPr>
          <a:xfrm>
            <a:off x="7621920" y="90792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Схема 8" descr=""/>
          <p:cNvPicPr/>
          <p:nvPr/>
        </p:nvPicPr>
        <p:blipFill>
          <a:blip r:embed="rId1"/>
          <a:stretch/>
        </p:blipFill>
        <p:spPr>
          <a:xfrm>
            <a:off x="291960" y="4998960"/>
            <a:ext cx="8504280" cy="120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2:06:04Z</dcterms:created>
  <dc:creator>dohod1</dc:creator>
  <dc:description/>
  <dc:language>en-US</dc:language>
  <cp:lastModifiedBy>User</cp:lastModifiedBy>
  <dcterms:modified xsi:type="dcterms:W3CDTF">2024-06-10T12:44:14Z</dcterms:modified>
  <cp:revision>1170</cp:revision>
  <dc:subject/>
  <dc:title>К проекту решения Совета народных депутатов Новохоперского муниципального района Воронежской области   о районном бюджете на 2014 год и на плановый период 2015 2016 годов</dc:title>
</cp:coreProperties>
</file>